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49F-7AD7-49CB-92E4-36ACA1CD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438-2026-4514-B3E7-98E6F42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F21E3-D29C-40FB-A36C-CF3DCB15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165D4-10F3-4E16-A202-D2FFC0FC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9E9F4-8072-4AD5-B179-65D4645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A1DCD-A9E2-48F4-8015-A7837D31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3F367-4D03-4894-B48E-9EA581B2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F0B1-337F-42AD-879C-703ED7F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2584-BD2E-4E19-9DA1-92A2EB5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8EABF-6708-4554-9D0C-1B3784C7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95224-D5A2-436E-8BFC-76A9E39D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15AD5-70B2-4135-811D-EAE24314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DBB-5ACA-42D3-8D2F-4096155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D0490-8817-4696-85F8-7FD85E96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73A74-4CD6-4360-83D4-C4AB130B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BA301-4D30-411C-8C6E-AF5905A5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A6A94-57D2-4963-9BB2-A57CE193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ECB1E-EC2A-4866-8383-B220E3D3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6C98B-7DF5-4316-B2F9-1A33A48A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A3298-420E-465A-82E0-B5C10291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C9AC-61AE-4C68-98DC-922EF21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4E52B-9949-476B-9A9D-14ACEE49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37C2F-89DE-48E6-AC1B-81E3C3CB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CB1-B1EA-49ED-B057-E5C614D9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19A1B-5F22-4DAD-AF4A-D347D5CB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B9ADE-40B0-43C3-9291-0B4470C4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86CD1-2EB1-4885-925A-DC97293D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164C4-75D2-449B-80D1-30B466E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20A78-B0ED-4628-804A-6EC92FA0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D5244-7284-4F4E-9241-3349747D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D752-11F0-43A7-97EE-2EC86BAD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83681-96EA-4416-9218-33F31357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1F4F3-83BF-446B-86CD-A58AE74D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2B2FC-D3B1-43DE-B392-A3D9991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935-252A-4150-A161-A2CB2BE7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B5579-468E-4564-A101-A3670EC6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59971-E57D-45C1-BB56-2619D9A3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0ABF9-970D-4ADF-A4F4-8CD0EDA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03A7E-CB0D-4A47-B645-8F014E17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B096A-84DE-4D9C-B00A-A7C2CD7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242B8-1EE1-4B6E-A88E-3FDD815A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EBCD9-896D-4B3B-A931-FFD8FE15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FA50A-BA9C-4370-B1AA-EFE8AF2C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2B5BC-E431-40D1-95AF-68138CE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B8084-D8AD-42C3-B016-CB5E55F6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C477-6480-45D2-B3C5-1852934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AC2A-CC3D-4BD3-B75A-E1C361A3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076A6-8D01-4BC4-B0E0-D80CBF14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48A4F-2789-4305-8E80-8A9305C2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AEC28-8853-4F71-A90C-7B560566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A26B0-05A9-4354-B43E-320DD5CD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94243-0B39-4A63-864F-5039AD17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3C495-75ED-4029-98BE-51C1C84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34926-7EC3-4FE5-84DD-1CA6C01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3636F-2FC0-47E2-82E2-8606E02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9518E-7E1F-4B39-8C9C-20AD94E4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F9B-ED97-4BC6-A75E-F943E51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F4967-3154-4B77-A822-E9FFB679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BFC64-B1CF-4271-A7D1-314DFCF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72D00-ECBB-41AB-83B6-30E9EAA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A818D-D6D8-47F6-9E16-6A90F67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C7E42-7D82-4DD4-86CA-0E32B647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3E201-B3DA-40C8-BAE1-27A91373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FE680-DCBD-4AA1-9419-708329B8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B312B-2A82-452F-A1A6-CFBD2D6B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ACBA5-0E40-453E-A83B-948E0C1D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8D196-1BCE-454B-8791-9D89CB56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D41D-54F8-4270-81D3-2F645EC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EE4A0-28D7-4FDD-9729-1EB67BF3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FF45D-7677-4C66-80B7-D7A2BED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A54BA-0A92-4B9D-8F12-66CBCCD4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DECA3-C3C1-4502-A753-8DCBF60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34EBE-6CE6-4BF8-A030-2FE9A23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0786E-87E9-4EFD-AD7A-DC69291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E92C6-AD82-4721-B440-21512F2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342A9-62C8-4B95-9457-7EAA22DC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CAE71-7E66-4C8F-A0A2-7978BBDA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160B47-3C74-49AE-93B1-4FBA8ABC0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4E88-71B7-4B95-89F3-CE62FD86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36E50-7EC2-4D08-8B76-9509207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68A35-5BB3-4337-A3E6-4A31314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B0017-4BA3-4CBD-B60E-7F477C0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40C3F-C203-497A-B731-5D6BB14B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E4032-AA8C-4DEB-8F83-78B2C815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246C9-F203-42E1-89B2-D832AF82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AA6CF-AF18-4433-85FE-4EDA6B2E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F7E62-7459-4B4B-98CB-0B97598F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CEBFC-6FF0-469C-A314-C1AF587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73A3D-C360-42E3-BE04-31268487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621-43B4-44B8-BB5B-862B5FAA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94CA6F-05F6-4417-8523-3C08DB5C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ED01F-2390-4E85-A0C8-D32F267C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9C539D-18B4-4693-B29B-48378435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024EB-56A7-434D-BB7B-5DD9A5EE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799CBC-F70C-48F5-B003-34005D7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9E0880-09EE-48E0-B233-F62ABFF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8040A-A3C4-491F-AB40-65EA763D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32D85-F8CB-42A1-B522-DBE90BC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92148-A77C-4494-9A92-2F17377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48838-6996-4D2B-A173-E0752B4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1FA-C8F1-4D46-B01E-BCAAC58D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1F886-BB47-40C5-970B-B3FC0937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981EB-C426-46DE-8EAA-0569E053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F3323-59BE-477C-BFE0-9D87F689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5E87BC-9725-4B86-B26C-41276DAE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86A0B2-4CCF-4CEC-AE16-C28DFAC7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3B8578-6584-41DD-9787-85697E68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70F23F-758F-495E-AEA2-6496C239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E2114-A8AC-4614-B9D9-1809E88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6B64E-ABA1-41EB-B757-50A2356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41782D-4FE3-489C-BE37-17C4C87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FEA-AF04-4D64-B655-F731A22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2490-B518-41CF-B77B-74A8687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DE422-CC77-40CC-9FC8-F28A0B80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A77F6-0ED2-423C-AC8F-150D792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E53BA6-B4DC-475C-A2E9-CFFAD07C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5DF88-180F-41AF-AE2B-0B292835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68947-D036-4A4B-A309-01D76292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746DF-51B1-423A-ACAA-5B6D0CA5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CF54D-C1BF-4E3D-8B5E-9247C0AD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D72A9-31DC-49C2-9FBD-F80AF3D3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442E1-44A3-44F4-88B6-F2FBD0E2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9D189-E1B3-486D-A785-6E5A5796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4139-947E-4C46-BFC0-7F0EC91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5A49C5-FA23-4D24-A338-665BD2BE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FBF94-14F3-46A0-9662-725DD6E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D3022-B993-41AC-9DA3-BED253C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AA398-F50E-4981-9930-CF2AA70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44E72-2A22-4730-8F69-D5D19E79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9D526-C33F-438C-9065-B3BFDC2D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F63A10-7DEC-416A-81EF-6D1E1CA5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8A54D-07AF-4F68-A4CF-BBC0B378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31A1CA-0474-4DCA-831B-5EB15643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292919-789A-495B-947C-12F5AF70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2EE8-D1D7-4179-B33E-19667C7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14EA2-A956-4F06-A642-F4ED4800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7D370B-F068-4C61-9BDF-B514E947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AD9EC-1014-4691-B1DB-4A28B57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A7451-07F5-4D6C-A479-782D9544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60640-D387-4AF3-B39F-634D8263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66A2A-44F0-430D-9876-A1A3BFC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5BB64D-C769-471A-AACF-40F0888E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68AE1-1B62-4F35-9971-3A8ECFC2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40AF95-38BD-4E28-A793-613273B5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9FA3D2-138E-4646-95B3-F7855570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64F4-B89F-41C6-96D1-8262CC10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C198F-EB43-4E74-89D5-B16496BD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F97F3-BCD3-4DEF-91AF-2F73E95B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5B716-671A-4E09-95F7-C1D36208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9A0DD-06FF-4B50-8562-3BD9142A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32DFB-4A89-4569-89C4-A22F148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A2157B-2F40-4D69-8D5E-4EAB775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2F934D-04FE-4169-8334-EA9D44D6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626A99-FCC7-48D6-BA9B-D912E15D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4D607-416A-494B-B9CD-2792E622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FF6AB1-78CA-4BD9-90B3-4302A1DE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44FC-4EBF-46B3-8864-FB29280D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E0616-DA01-4E97-BB59-847D6A2C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7A227-6756-4E41-B5E3-28581C74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BF63D-6B77-40C0-B585-06CBED29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BD5762-CDFA-4F76-ACB4-9EF6E28B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F8F50B-CE3F-4031-B84A-2A8CB62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22A5DB-B917-4EFF-B510-66FA92D1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6A625D-9C32-494D-BCF5-0E90B28F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2D806-985A-4845-8991-A354B34F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77736-BD87-4874-8A02-80B4AF7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7E7D46-5C8A-4B17-B72E-D1DDB6B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848A-50E8-4BD7-B034-ACE8AB5E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4D51BD-F0ED-4A9B-8FE7-02401448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B9814-C7F2-4840-8255-7FB4975C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8812F-9529-4CD2-815D-9E05A77D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7C654B-EC5E-4048-B5FE-4529A289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A019C6-0AEB-45D0-8336-3AECD88F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2EBB7-677C-4E75-AEE9-F82C44E0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2B0B3A-0295-43CF-9F46-32EDEE1D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D94DC2-004C-4A1D-9720-17656C0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41DDE3-1255-4F53-AC89-00E4F60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D8ECB8-18BB-41D5-B9A9-6D9380C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9A63-34D8-4250-A54E-A3B5BC20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E48A82-E4CA-4A2D-921D-C4B2E305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FC864A-5DF9-4B40-B0FF-4090DF6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900A06-59E1-4C11-B6F6-63B064F2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A2FC4E-8A67-4EDF-B72F-0DCB6A9A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B3425C-6D7F-41AF-AB7E-ED05D7C0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72B886-7A35-4740-A05B-2126E1D6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CCDDBD-1354-4002-9158-31A85653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EFE86-F18B-4C24-AE98-1BF73943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5727D-DE61-432F-AB58-C2C488FD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3994D0-3B59-4350-816A-C3F4FAA2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8667-12B6-4572-B9E5-3864AA6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6FE6B3-5570-444E-B45F-56F14FC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929C1-7399-448E-B070-9EEEDA4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5C8474-2D60-4CFF-8F20-2312666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C2FED6-7252-4BE8-AC81-43AE90E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F4A5F-1619-4891-9A14-E064708C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0D0A8B-E7C3-413D-9BA4-6A47F75E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C91D1C-3BB4-422A-9C68-7C47F698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689A-2325-4CCE-8138-5F40FCFE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27F3-F55B-4836-9D2E-A417D51B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E0B-6BB5-4A74-A59D-ECB8A93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E91C0-4F71-426B-A130-E6DA51CD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68A68-5EF6-4501-902E-81D8297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FAA1-CFB6-4BEF-9180-CC83CB9D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2AA3-28A5-4444-820E-0649024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769E8-BB2D-44D8-8D5D-27D0C4C8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1B855-B50E-4B80-9F8A-4CF97AE7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006EA-12A1-42F0-B409-F77D0CDD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2C8C-92FA-404D-B43F-BBF6510A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4AF4-7C09-4170-A935-5CCFFCBA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AE80-E150-4F02-88F2-172BA6EE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EC0-CB80-4CF9-95EB-78B5A43D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F899-D107-4973-82DD-4EFB060C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4C19-64EA-47A1-B8A0-7FEF8776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7861-3DA3-49F4-99EC-07305260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B518-161A-40CB-A3D9-ACB1F1A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D24C-FDE5-4954-9705-11CA3BBC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62B2-C4C4-48A5-B424-BFCFC7D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524C1-B30A-4122-9036-CA2BEF13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3304-C015-48CB-9CB5-38FB53BD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C2E3-D7EA-47F9-9B0D-6A232091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70E9-7E78-40C9-B975-FDF1B070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12B-6EEF-4483-B2E0-C671021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35555-B6AE-47EA-9CB4-6C5C69AB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836C-70A4-44CF-9B33-678494F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ABCD-E68C-4B6D-93BF-96D68AEE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9DF2-6D43-46CD-8A92-FF33FA0B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1C73-C380-4481-AE13-8EE6A472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F4C8-032C-4A48-BB1F-E7AD0A0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6A2B-BC98-4577-AB13-8F430529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C08F-9F66-469E-9815-E3CB97C5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3ED22-3BC3-4563-B546-28538B71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517B-48E4-46A1-822E-7A108F4B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9EFB-AF38-4F93-9383-2CBEA798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6CF9-29C4-4488-B498-3F05634C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4149-45FB-4465-B41B-705C9D52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51582-BB80-4199-9A4E-3B00661F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6715-4FAC-46F4-9FF2-20BE25CE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DC84C-28EA-4150-AE70-DF783F25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E84A-75B2-4E8F-A434-68E35E1C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2247-61E5-4401-9068-D6B7481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ECE12-8CA9-4E1A-A389-1A89CCAE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BF18-BEB9-4B52-82F6-C71E56B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CCF03-683D-4A34-9826-A917CFC7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DE9-D420-4876-951F-5BB860E5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0DEC-F31F-4939-B27B-626B2ACB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1A9D-F394-4E5E-9251-6A37E477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1CA62-0CAD-411E-8DCE-549356F0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BDCA5-699B-4011-AC23-039286DB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BFA98-D490-4971-92D7-FD145E6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1A43A-51B8-4720-B9B6-A0AC594F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12894-44C1-4DD3-B331-396863EC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FA7BD-1D7A-4689-8A39-C0CB24D9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93DB4-D4C6-4F83-9CEC-1CBD2AE4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56CBC-EFA5-4575-9F6A-DE784D9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2BA-42D6-48B6-ACB8-D923FC9B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C5CEF-816D-403B-BA1A-F0934CE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6F91-B7F4-4120-9C7A-ED1AFEF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D316-3056-47A6-9576-77F03A25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2AC2-B27E-4D62-823E-7141FC4C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0A7A3-E64E-434B-B668-7090BE7A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9719-7D95-4FD9-A50C-501BCB17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0BA86-A2CC-4E80-99B4-BCDB2A86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8725-18F5-4B5F-968A-7CCC130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1CBC0-AB21-441F-A13B-84F9916C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BDB3-A414-4C6F-B36E-FC2731D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7C7-031D-4E73-88D3-0184689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394B-7AC1-47C2-9D45-F37A600F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36734-4526-4615-9686-372DB9FF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2ABD2-386F-4B2B-80BA-2D09226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90D3-DB73-49F5-9FA7-CF0ABDA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A15A-255A-40A1-9228-39737D99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0116-F439-4CFA-826C-8FE490AB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39B3-7532-47D7-81BB-206826B6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8F961-A68C-40EE-9A80-5F901AC2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FA356-569C-41F0-8234-11C8E4F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E0548-1FB6-4D08-AA38-9715A4EB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0A7A-E9D0-4CD3-A903-50525E273B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D1C-AA17-4B66-ADBE-1F72CAE11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7EA7-FB3D-49FD-9D76-D52ED62BF3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10AA-8BA8-41DE-BC68-472423EF3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719E-7CB5-4AB9-86EF-4B1CDC13E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F1DE-449F-4425-9624-95EFC16E49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80E2-89C4-492A-AD39-64C4934540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84E-655E-4221-B317-F3B91605EA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C435-8C46-4DD9-9A5D-97D966447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EF3D-A39A-4FB8-8086-4E2ECA4F7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23C6-0E31-4988-9587-7413293F84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DB09-9173-4647-8CA8-783EF47634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4C9B-6F47-4B7B-85BB-C72D8691B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FA24-8156-45C9-9F07-B3FD326242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5400-F822-4150-A230-4AFE7B99F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A53-2A13-4A68-9AAC-F9CCBA92B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A4E-9910-4186-9C1A-89381C362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008-8732-4DF9-947C-CFA2CE3AEC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874-D700-4F13-9934-FE896EF737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D801-9DDF-403B-93E6-4FD523E5E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CD52-EF1B-4492-8276-7D460BFE2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8537-20EA-4EC1-ADF0-914BA644D5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D9B1-AD37-4771-87FD-E3E708452C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B117-740F-4328-B0FB-1DCCC14DB9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EA3-8FE8-457C-8B26-3C98489F01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7F1-A1D0-49C8-A396-96EAC4EFF4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8FD5-4BA7-4318-B12D-388AA6E2D5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F896-26CB-4EC9-A3D8-52FFFF95FB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0C4-49EB-4709-B48C-DF584D10FE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8D9-F9DF-4BEA-8698-ED7951F8E1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0BE1-3A29-4721-BBA7-1AC88CFDB1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F9C8-7FB3-4B1E-B54E-2726071A53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9EB-81B9-45D0-97A9-4C53CCD547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FB9-E25F-4586-8373-B1CB4F8502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5DBE-1FA3-4E44-BA1C-1BA3165F0F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1106-931E-4B1F-A56E-A99B2DADF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21E8-2680-420A-8059-0979159AE4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7AD4-7E58-4D8A-9F00-D81EC80888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52B6-1797-49E4-AB9F-7BEB9E3450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D98-AAD3-4FA1-8796-659558D42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767-8CC1-43A4-B40F-6B2DB992ED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0300-1DC6-4C27-8DF0-1E8EB561C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643120" y="2938320"/>
            <a:ext cx="38577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71360" y="855720"/>
            <a:ext cx="8801280" cy="52372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8143920" y="2290680"/>
            <a:ext cx="749160" cy="4111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5032440" y="2779560"/>
            <a:ext cx="1123920" cy="4114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971640" y="3241800"/>
            <a:ext cx="1123920" cy="4111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123920" cy="41112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6"/>
          <a:stretch/>
        </p:blipFill>
        <p:spPr>
          <a:xfrm>
            <a:off x="971640" y="4192560"/>
            <a:ext cx="1123920" cy="4111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7"/>
          <a:stretch/>
        </p:blipFill>
        <p:spPr>
          <a:xfrm>
            <a:off x="4910040" y="4167360"/>
            <a:ext cx="1123920" cy="4111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8"/>
          <a:stretch/>
        </p:blipFill>
        <p:spPr>
          <a:xfrm>
            <a:off x="5940360" y="4638600"/>
            <a:ext cx="1123920" cy="4111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9"/>
          <a:stretch/>
        </p:blipFill>
        <p:spPr>
          <a:xfrm>
            <a:off x="2382840" y="5127480"/>
            <a:ext cx="1123920" cy="4114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10"/>
          <a:stretch/>
        </p:blipFill>
        <p:spPr>
          <a:xfrm>
            <a:off x="5364000" y="5602320"/>
            <a:ext cx="720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图片 1" descr=""/>
          <p:cNvPicPr/>
          <p:nvPr/>
        </p:nvPicPr>
        <p:blipFill>
          <a:blip r:embed="rId1"/>
          <a:stretch/>
        </p:blipFill>
        <p:spPr>
          <a:xfrm>
            <a:off x="185760" y="2052720"/>
            <a:ext cx="8771040" cy="27525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2"/>
          <a:stretch/>
        </p:blipFill>
        <p:spPr>
          <a:xfrm>
            <a:off x="7885080" y="2003400"/>
            <a:ext cx="79056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4840" y="1019160"/>
            <a:ext cx="8732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71360" y="944640"/>
            <a:ext cx="8801280" cy="563868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2"/>
          <a:stretch/>
        </p:blipFill>
        <p:spPr>
          <a:xfrm>
            <a:off x="539640" y="3270240"/>
            <a:ext cx="505080" cy="4111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539640" y="3730680"/>
            <a:ext cx="505080" cy="4111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611280" y="4221000"/>
            <a:ext cx="504720" cy="4114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611280" y="469728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611280" y="515772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682560" y="564840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8"/>
          <a:stretch/>
        </p:blipFill>
        <p:spPr>
          <a:xfrm>
            <a:off x="611280" y="612144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图片 1" descr=""/>
          <p:cNvPicPr/>
          <p:nvPr/>
        </p:nvPicPr>
        <p:blipFill>
          <a:blip r:embed="rId1"/>
          <a:stretch/>
        </p:blipFill>
        <p:spPr>
          <a:xfrm>
            <a:off x="314280" y="2266920"/>
            <a:ext cx="8515440" cy="23241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3"/>
          <a:stretch/>
        </p:blipFill>
        <p:spPr>
          <a:xfrm>
            <a:off x="755640" y="318456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4"/>
          <a:stretch/>
        </p:blipFill>
        <p:spPr>
          <a:xfrm>
            <a:off x="755640" y="3659040"/>
            <a:ext cx="504720" cy="4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2" descr=""/>
          <p:cNvPicPr/>
          <p:nvPr/>
        </p:nvPicPr>
        <p:blipFill>
          <a:blip r:embed="rId1"/>
          <a:stretch/>
        </p:blipFill>
        <p:spPr>
          <a:xfrm>
            <a:off x="158760" y="781200"/>
            <a:ext cx="882792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219240" y="952560"/>
            <a:ext cx="8705520" cy="5532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1116000" y="595008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2771640" y="5950080"/>
            <a:ext cx="505080" cy="4111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4500720" y="595008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300720" y="5950080"/>
            <a:ext cx="504720" cy="4111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8028000" y="5950080"/>
            <a:ext cx="50472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85760" y="727200"/>
            <a:ext cx="87710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357120" y="932040"/>
            <a:ext cx="84279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266760" y="1562040"/>
            <a:ext cx="8610480" cy="37339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826920" y="3905280"/>
            <a:ext cx="2881440" cy="4111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5219640" y="3919680"/>
            <a:ext cx="2881440" cy="4111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2881440" cy="4111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5219640" y="4379760"/>
            <a:ext cx="2881440" cy="4114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826920" y="4826160"/>
            <a:ext cx="288144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1:1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